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7D209-CCE7-42BD-B5FB-B1543431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2F5D8-B19D-4BDF-BF12-6DE7FBAB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80A32-5311-4489-A6DE-71DADEEE0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82FDD-8F9E-4321-B3EF-7AB356A6D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9D01-F145-418B-9399-5BBB03DFE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F7D61-CA94-4580-87EC-00DBE31C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B100-512C-49B0-9107-DDE111C8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835C-D78C-4746-9D0D-F4D32CF67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C67B-FC36-495C-AF2C-0AB06642F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4E13-0857-49CA-ABC9-33B95140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C89CA-F094-471D-84C8-79F6213A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80956-D152-4283-93A6-4BF04474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9331C-FD7B-4A62-9D8C-0B1F3DED3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DF7FC-530D-45D1-8E39-3C5E1EDF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C13E-EDA5-4C0E-B99C-AB2A1439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20BA-EB68-481A-BEE6-5BF1F17B0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E6EB4-4B84-4C2F-A76A-E27B97FB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5A88C-4AC5-40C6-8198-4517CA84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7F25E-5E74-4355-A0AB-4D9592A2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2D2BB-F613-4AA6-A52F-E638DAAA4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AA0B5-5BF2-48A1-B278-70BA4FE8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C7BB9-56C6-4255-85FB-72839109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49705-0716-42AA-85B6-AB725514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94836-D58F-43EC-BEFC-B08E9074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9CAD-2470-43C7-93B0-6FCC7C65FF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D5896-C0F1-4DBF-9A48-2E7D148AA5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2920" y="1828800"/>
            <a:ext cx="6148440" cy="224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Организация проверок в образовательных организациях по вопросам ПБ и норм выдачи СИЗ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394920" y="4869000"/>
            <a:ext cx="57610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рактический семинар уполномоченных по ОТ </a:t>
            </a:r>
            <a:br>
              <a:rPr sz="2600"/>
            </a:b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Верх-Исетской районной организации Профсоюза работников образова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partnery_3"/>
          <p:cNvPicPr/>
          <p:nvPr/>
        </p:nvPicPr>
        <p:blipFill>
          <a:blip r:embed="rId1"/>
          <a:stretch/>
        </p:blipFill>
        <p:spPr>
          <a:xfrm>
            <a:off x="7020000" y="4797360"/>
            <a:ext cx="179532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5"/>
          <p:cNvSpPr/>
          <p:nvPr/>
        </p:nvSpPr>
        <p:spPr>
          <a:xfrm>
            <a:off x="2771640" y="2492280"/>
            <a:ext cx="2952720" cy="115272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ПРОВЕР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68360" y="692280"/>
            <a:ext cx="2952720" cy="115236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Ц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219640" y="4653000"/>
            <a:ext cx="3382920" cy="1224000"/>
          </a:xfrm>
          <a:prstGeom prst="roundRect">
            <a:avLst>
              <a:gd name="adj" fmla="val 26722"/>
            </a:avLst>
          </a:prstGeom>
          <a:solidFill>
            <a:srgbClr val="3366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РЕЗУЛЬТА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0"/>
          <p:cNvSpPr/>
          <p:nvPr/>
        </p:nvSpPr>
        <p:spPr>
          <a:xfrm flipH="1" rot="16556400">
            <a:off x="898920" y="1556280"/>
            <a:ext cx="1944720" cy="1657440"/>
          </a:xfrm>
          <a:custGeom>
            <a:avLst/>
            <a:gdLst>
              <a:gd name="textAreaLeft" fmla="*/ 284760 w 1944720"/>
              <a:gd name="textAreaRight" fmla="*/ 1659960 w 1944720"/>
              <a:gd name="textAreaTop" fmla="*/ 242640 h 1657440"/>
              <a:gd name="textAreaBottom" fmla="*/ 1414800 h 16574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1"/>
          <p:cNvSpPr/>
          <p:nvPr/>
        </p:nvSpPr>
        <p:spPr>
          <a:xfrm flipH="1" rot="16556400">
            <a:off x="3292920" y="3600360"/>
            <a:ext cx="2451240" cy="1828800"/>
          </a:xfrm>
          <a:custGeom>
            <a:avLst/>
            <a:gdLst>
              <a:gd name="textAreaLeft" fmla="*/ 358920 w 2451240"/>
              <a:gd name="textAreaRight" fmla="*/ 2092320 w 2451240"/>
              <a:gd name="textAreaTop" fmla="*/ 267840 h 1828800"/>
              <a:gd name="textAreaBottom" fmla="*/ 1560960 h 182880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6"/>
          <p:cNvSpPr/>
          <p:nvPr/>
        </p:nvSpPr>
        <p:spPr>
          <a:xfrm>
            <a:off x="3924360" y="679320"/>
            <a:ext cx="5111640" cy="1405080"/>
          </a:xfrm>
          <a:prstGeom prst="roundRect">
            <a:avLst>
              <a:gd name="adj" fmla="val 26722"/>
            </a:avLst>
          </a:prstGeom>
          <a:solidFill>
            <a:srgbClr val="ffff00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Тема и сроки проверки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должны быть согласованы </a:t>
            </a:r>
            <a:br>
              <a:rPr sz="1800"/>
            </a:b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на заседании П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Руководителю письменное уведомление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72"/>
                </a:solidFill>
                <a:latin typeface="Arial"/>
              </a:rPr>
              <a:t>элемент соц.партнер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 flipH="1" flipV="1" rot="20622000">
            <a:off x="982440" y="3220560"/>
            <a:ext cx="3241440" cy="3324240"/>
          </a:xfrm>
          <a:custGeom>
            <a:avLst/>
            <a:gdLst>
              <a:gd name="textAreaLeft" fmla="*/ 474480 w 3241440"/>
              <a:gd name="textAreaRight" fmla="*/ 2766960 w 3241440"/>
              <a:gd name="textAreaTop" fmla="*/ 486720 h 3324240"/>
              <a:gd name="textAreaBottom" fmla="*/ 2837520 h 3324240"/>
            </a:gdLst>
            <a:ahLst/>
            <a:rect l="textAreaLeft" t="textAreaTop" r="textAreaRight" b="textAreaBottom"/>
            <a:pathLst>
              <a:path w="21600" h="21600">
                <a:moveTo>
                  <a:pt x="17412" y="13944"/>
                </a:moveTo>
                <a:cubicBezTo>
                  <a:pt x="17879" y="12962"/>
                  <a:pt x="18122" y="11887"/>
                  <a:pt x="18122" y="10800"/>
                </a:cubicBezTo>
                <a:cubicBezTo>
                  <a:pt x="18122" y="6756"/>
                  <a:pt x="14843" y="3478"/>
                  <a:pt x="10800" y="3478"/>
                </a:cubicBezTo>
                <a:cubicBezTo>
                  <a:pt x="9765" y="3477"/>
                  <a:pt x="8742" y="3697"/>
                  <a:pt x="7798" y="4121"/>
                </a:cubicBezTo>
                <a:lnTo>
                  <a:pt x="6372" y="949"/>
                </a:lnTo>
                <a:cubicBezTo>
                  <a:pt x="7764" y="323"/>
                  <a:pt x="9273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2404"/>
                  <a:pt x="21242" y="13989"/>
                  <a:pt x="20553" y="15438"/>
                </a:cubicBezTo>
                <a:lnTo>
                  <a:pt x="22991" y="16598"/>
                </a:lnTo>
                <a:lnTo>
                  <a:pt x="17076" y="18699"/>
                </a:lnTo>
                <a:lnTo>
                  <a:pt x="14974" y="12785"/>
                </a:lnTo>
                <a:lnTo>
                  <a:pt x="17412" y="13944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ffd6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457200"/>
            <a:ext cx="843588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ОНТРОЛЬ ЗА ОБЕСПЕЧЕНИЕМ РАБОТАЮЩИХ С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58560" y="1240920"/>
            <a:ext cx="878508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тандарта организации по обеспечению работников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сертификата качества на все виды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личных карточек учета-выдачи СИЗ и Си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чень  выданных СИЗ и СиОС работнику в соответствии с нормами, своевременность выдачи и заме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рушение сроков выдачи СИ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СИЗ работающи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чество спецодежды (результаты опроса работающих, причины списания  в актах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36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Работодатель имеет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с учетом мнения выборного органа первичной профсоюзной организации или иного представительного органа работников и своего финансово-экономического положения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станавливать нор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бесплатной выдачи работникам специальной одежды, специальной обуви и других средств индивидуальной защиты, </a:t>
            </a:r>
            <a:r>
              <a:rPr b="0" lang="ru-RU" sz="2600" spc="-1" strike="noStrike">
                <a:solidFill>
                  <a:srgbClr val="800000"/>
                </a:solidFill>
                <a:latin typeface="Arial"/>
              </a:rPr>
              <a:t>улучшающие по сравнению с типовыми нормам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ащиту работников от имеющихся на рабочих местах вредных и (или) опасных факторов, а также особых температурных условий или загрязн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онтроль по П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353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6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олномоченный проверя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, исправность, доступность огнетушителей и пожарных рукав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предупредительных плакатов и знаков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личие и состояние планов эваку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сутствие предметов, препятствующих движению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рабочих местах, на лестничных клетках в коридорах, на путях эвакуации 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ранение и использование ЛВЖ и ГЖ, использование опасных химических вещест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истрация и периодичность проведения инструктажей по П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дение тренировочных эваку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.д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Акт  /  справ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та, мес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проверя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/или в присутствии ког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овер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установлено проверк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мечания / наруш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писи проверяющих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и или присутствующи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знакомление должностных лиц с результатами под подпи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95280" y="98100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роприятия по обеспечению СИЗ и по ПБ могут быть заложены и в СОГЛАШЕНИЕ по ОТ (Приложение к КД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СИЗ +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тья 212, 214, 219, 221 Трудового кодекса Российской Феде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здравсоцразвития России от 01.06.2009 N 290н в ред. от 12.01.2015)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"Об утверждении Межотраслевых правил обеспечения работников специальной одеждой, специальной обувью и другими средствами индивидуальной защиты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каз Министерства труда и социальной защиты РФ от 9 декабря 2014 г. N 997н «Об утверждении типовых норм бесплатной выдачи специальной одежды, специальной обуви и других средств индивидуальной защиты работникам сквозных профессий и должностей всех видов экономической деятельности, занятым на работах с вредными и (или) опасными условиями труда, а также на работах, выполняемых в особых температурных условиях или связанных с загрязнение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каз Министерства здравоохранения и социального развития РФ от 17 декабря 2010 г. № 1122н “Об утверждении типовых норм бесплатной выдачи работникам смывающих и (или) обезвреживающих средств и стандарта безопасности труда «Обеспечение работников смывающими и (или) обезвреживающими средствами» (в ред. изм. от от 20.02.201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Д организации:   раздел  «Охрана  труда» и приложение по     обеспечению работающих СИ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ы АРМ / СО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Пожарная без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864072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едеральный закон от 21 декабря 1994 года № 69-ФЗ "О пожарной безопасности" (в ред. изм. от  23.06.1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З от 22.07.2008 N 123  «Технический регламент о требованиях пожарной безопасности» (ред. от 03.07.2016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тановление Правительства РФ от 25.04.2012 N 390 (ред. от 06.04.2016) "О противопожарном режиме" (вместе с "Правилами противопожарного режима в Российской Федерации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04-03 «Система оповещения и управления эвакуацией людей при пожарах в зданиях и сооружения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ПБ 110-03 «Перечень зданий, сооружений, помещений и оборудования, подлежащих защите автоматическими установками пожаротушения и автоматической пожарной сигнализацие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Утратили силу!!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01-03 «Правила пожарной безопасности в РФ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4c22"/>
                </a:solidFill>
                <a:latin typeface="Times New Roman"/>
              </a:rPr>
              <a:t>ППБ 101-89 «Правила пожарной безопасности для общеобразовательных школ, профессионально-технических училищ, школ-интернатов, детских домов, дошкольных, внешкольных и других учебно-воспитательных учреждений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47640" y="620640"/>
            <a:ext cx="598680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e"/>
                </a:solidFill>
                <a:latin typeface="Arial"/>
              </a:rPr>
              <a:t>ВСПОМНИТЬ ВСЁ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1b9a07f436a73da04b11f74b90e6444"/>
          <p:cNvPicPr/>
          <p:nvPr/>
        </p:nvPicPr>
        <p:blipFill>
          <a:blip r:embed="rId1"/>
          <a:stretch/>
        </p:blipFill>
        <p:spPr>
          <a:xfrm>
            <a:off x="1692360" y="2349360"/>
            <a:ext cx="552456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>
            <a:hlinkClick r:id="rId1" action="ppaction://hlinksldjump"/>
          </p:cNvPr>
          <p:cNvSpPr/>
          <p:nvPr/>
        </p:nvSpPr>
        <p:spPr>
          <a:xfrm>
            <a:off x="4140360" y="3500280"/>
            <a:ext cx="4030560" cy="2808360"/>
          </a:xfrm>
          <a:custGeom>
            <a:avLst/>
            <a:gdLst>
              <a:gd name="textAreaLeft" fmla="*/ 181800 w 4030560"/>
              <a:gd name="textAreaRight" fmla="*/ 3848760 w 4030560"/>
              <a:gd name="textAreaTop" fmla="*/ 181800 h 2808360"/>
              <a:gd name="textAreaBottom" fmla="*/ 2626560 h 2808360"/>
            </a:gdLst>
            <a:ahLst/>
            <a:rect l="textAreaLeft" t="textAreaTop" r="textAreaRight" b="textAreaBottom"/>
            <a:pathLst>
              <a:path w="30999" h="21600">
                <a:moveTo>
                  <a:pt x="0" y="0"/>
                </a:moveTo>
                <a:lnTo>
                  <a:pt x="30999" y="0"/>
                </a:lnTo>
                <a:lnTo>
                  <a:pt x="30999" y="21600"/>
                </a:lnTo>
                <a:lnTo>
                  <a:pt x="0" y="21600"/>
                </a:lnTo>
                <a:close/>
              </a:path>
              <a:path fill="lightenLess" w="30999" h="21600">
                <a:moveTo>
                  <a:pt x="0" y="0"/>
                </a:moveTo>
                <a:lnTo>
                  <a:pt x="30999" y="0"/>
                </a:lnTo>
                <a:lnTo>
                  <a:pt x="29599" y="1400"/>
                </a:lnTo>
                <a:lnTo>
                  <a:pt x="1400" y="1400"/>
                </a:lnTo>
                <a:close/>
              </a:path>
              <a:path fill="darken" w="30999" h="21600">
                <a:moveTo>
                  <a:pt x="30999" y="0"/>
                </a:moveTo>
                <a:lnTo>
                  <a:pt x="30999" y="21600"/>
                </a:lnTo>
                <a:lnTo>
                  <a:pt x="29599" y="20200"/>
                </a:lnTo>
                <a:lnTo>
                  <a:pt x="29599" y="1400"/>
                </a:lnTo>
                <a:close/>
              </a:path>
              <a:path fill="darkenLess" w="30999" h="21600">
                <a:moveTo>
                  <a:pt x="309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599" y="20200"/>
                </a:lnTo>
                <a:close/>
              </a:path>
              <a:path fill="lighten" w="309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СИЗ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5">
            <a:hlinkClick r:id="rId2" action="ppaction://hlinksldjump"/>
          </p:cNvPr>
          <p:cNvSpPr/>
          <p:nvPr/>
        </p:nvSpPr>
        <p:spPr>
          <a:xfrm>
            <a:off x="539640" y="549360"/>
            <a:ext cx="3961080" cy="2519280"/>
          </a:xfrm>
          <a:custGeom>
            <a:avLst/>
            <a:gdLst>
              <a:gd name="textAreaLeft" fmla="*/ 163080 w 3961080"/>
              <a:gd name="textAreaRight" fmla="*/ 3798000 w 3961080"/>
              <a:gd name="textAreaTop" fmla="*/ 163080 h 2519280"/>
              <a:gd name="textAreaBottom" fmla="*/ 2356200 h 2519280"/>
            </a:gdLst>
            <a:ahLst/>
            <a:rect l="textAreaLeft" t="textAreaTop" r="textAreaRight" b="textAreaBottom"/>
            <a:pathLst>
              <a:path w="33960" h="21600">
                <a:moveTo>
                  <a:pt x="0" y="0"/>
                </a:moveTo>
                <a:lnTo>
                  <a:pt x="33960" y="0"/>
                </a:lnTo>
                <a:lnTo>
                  <a:pt x="33960" y="21600"/>
                </a:lnTo>
                <a:lnTo>
                  <a:pt x="0" y="21600"/>
                </a:lnTo>
                <a:close/>
              </a:path>
              <a:path fill="lightenLess" w="33960" h="21600">
                <a:moveTo>
                  <a:pt x="0" y="0"/>
                </a:moveTo>
                <a:lnTo>
                  <a:pt x="33960" y="0"/>
                </a:lnTo>
                <a:lnTo>
                  <a:pt x="32560" y="1400"/>
                </a:lnTo>
                <a:lnTo>
                  <a:pt x="1400" y="1400"/>
                </a:lnTo>
                <a:close/>
              </a:path>
              <a:path fill="darken" w="33960" h="21600">
                <a:moveTo>
                  <a:pt x="33960" y="0"/>
                </a:moveTo>
                <a:lnTo>
                  <a:pt x="33960" y="21600"/>
                </a:lnTo>
                <a:lnTo>
                  <a:pt x="32560" y="20200"/>
                </a:lnTo>
                <a:lnTo>
                  <a:pt x="32560" y="1400"/>
                </a:lnTo>
                <a:close/>
              </a:path>
              <a:path fill="darkenLess" w="33960" h="21600">
                <a:moveTo>
                  <a:pt x="339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60" y="20200"/>
                </a:lnTo>
                <a:close/>
              </a:path>
              <a:path fill="lighten" w="339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2980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800000"/>
                </a:solidFill>
                <a:latin typeface="Arial Black"/>
              </a:rPr>
              <a:t>П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Номера вопросов по теме «ПОЖАРНАЯ БЕЗОПАСНОСТЬ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 flipH="1">
            <a:off x="97164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"/>
          <p:cNvSpPr/>
          <p:nvPr/>
        </p:nvSpPr>
        <p:spPr>
          <a:xfrm flipH="1">
            <a:off x="5869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 flipH="1">
            <a:off x="97164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1"/>
          <p:cNvSpPr/>
          <p:nvPr/>
        </p:nvSpPr>
        <p:spPr>
          <a:xfrm flipH="1">
            <a:off x="2268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2"/>
          <p:cNvSpPr/>
          <p:nvPr/>
        </p:nvSpPr>
        <p:spPr>
          <a:xfrm flipH="1">
            <a:off x="3492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3"/>
          <p:cNvSpPr/>
          <p:nvPr/>
        </p:nvSpPr>
        <p:spPr>
          <a:xfrm flipH="1">
            <a:off x="464328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4"/>
          <p:cNvSpPr/>
          <p:nvPr/>
        </p:nvSpPr>
        <p:spPr>
          <a:xfrm flipH="1">
            <a:off x="5940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5"/>
          <p:cNvSpPr/>
          <p:nvPr/>
        </p:nvSpPr>
        <p:spPr>
          <a:xfrm flipH="1">
            <a:off x="7164360" y="357336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 flipH="1">
            <a:off x="97164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"/>
          <p:cNvSpPr/>
          <p:nvPr/>
        </p:nvSpPr>
        <p:spPr>
          <a:xfrm flipH="1">
            <a:off x="2268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8"/>
          <p:cNvSpPr/>
          <p:nvPr/>
        </p:nvSpPr>
        <p:spPr>
          <a:xfrm flipH="1">
            <a:off x="349236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9"/>
          <p:cNvSpPr/>
          <p:nvPr/>
        </p:nvSpPr>
        <p:spPr>
          <a:xfrm flipH="1">
            <a:off x="457200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 flipH="1">
            <a:off x="5869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1"/>
          <p:cNvSpPr/>
          <p:nvPr/>
        </p:nvSpPr>
        <p:spPr>
          <a:xfrm flipH="1">
            <a:off x="7093080" y="450864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 flipH="1">
            <a:off x="97164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 flipH="1">
            <a:off x="2268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4"/>
          <p:cNvSpPr/>
          <p:nvPr/>
        </p:nvSpPr>
        <p:spPr>
          <a:xfrm flipH="1">
            <a:off x="3492360" y="5445000"/>
            <a:ext cx="503280" cy="43200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8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29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0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1"/>
          <p:cNvSpPr/>
          <p:nvPr/>
        </p:nvSpPr>
        <p:spPr>
          <a:xfrm flipH="1">
            <a:off x="709308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32"/>
          <p:cNvSpPr/>
          <p:nvPr/>
        </p:nvSpPr>
        <p:spPr>
          <a:xfrm flipH="1">
            <a:off x="2268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33"/>
          <p:cNvSpPr/>
          <p:nvPr/>
        </p:nvSpPr>
        <p:spPr>
          <a:xfrm flipH="1">
            <a:off x="349236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34"/>
          <p:cNvSpPr/>
          <p:nvPr/>
        </p:nvSpPr>
        <p:spPr>
          <a:xfrm flipH="1">
            <a:off x="4572000" y="2637000"/>
            <a:ext cx="503280" cy="43164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5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785988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</a:rPr>
              <a:t>Номера вопросов по теме «СИЗ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755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212400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34800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3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4427640" y="2637000"/>
            <a:ext cx="86508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4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5724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5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8"/>
          <p:cNvSpPr/>
          <p:nvPr/>
        </p:nvSpPr>
        <p:spPr>
          <a:xfrm>
            <a:off x="6948360" y="2637000"/>
            <a:ext cx="865440" cy="71892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6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9"/>
          <p:cNvSpPr/>
          <p:nvPr/>
        </p:nvSpPr>
        <p:spPr>
          <a:xfrm>
            <a:off x="82692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7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"/>
          <p:cNvSpPr/>
          <p:nvPr/>
        </p:nvSpPr>
        <p:spPr>
          <a:xfrm>
            <a:off x="2124000" y="3573360"/>
            <a:ext cx="86544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8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3348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9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449892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0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5796000" y="3573360"/>
            <a:ext cx="865080" cy="719280"/>
          </a:xfrm>
          <a:prstGeom prst="rect">
            <a:avLst/>
          </a:prstGeom>
          <a:solidFill>
            <a:srgbClr val="ffd629"/>
          </a:solidFill>
          <a:ln w="0">
            <a:noFill/>
          </a:ln>
          <a:effectLst>
            <a:outerShdw dist="17819" dir="2700000" blurRad="0" rotWithShape="0">
              <a:srgbClr val="99801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ac"/>
                </a:solidFill>
                <a:latin typeface="Arial"/>
              </a:rPr>
              <a:t>1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24">
            <a:hlinkClick r:id="rId1" action="ppaction://hlinksldjump"/>
          </p:cNvPr>
          <p:cNvSpPr/>
          <p:nvPr/>
        </p:nvSpPr>
        <p:spPr>
          <a:xfrm>
            <a:off x="7956720" y="5445000"/>
            <a:ext cx="792000" cy="1008360"/>
          </a:xfrm>
          <a:prstGeom prst="upArrow">
            <a:avLst>
              <a:gd name="adj1" fmla="val 50000"/>
              <a:gd name="adj2" fmla="val 31830"/>
            </a:avLst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47280" y="620640"/>
            <a:ext cx="6985080" cy="13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e"/>
                </a:solidFill>
                <a:latin typeface="Arial"/>
              </a:rPr>
              <a:t>КОРОТКО О ГЛАВНОМ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%D0%9F%D0%BE%D0%B4%D0%B2%D0%B5%D0%B4%D1%83-%D0%B8%D1%82%D0%BE%D0%B3-768x576"/>
          <p:cNvPicPr/>
          <p:nvPr/>
        </p:nvPicPr>
        <p:blipFill>
          <a:blip r:embed="rId1"/>
          <a:stretch/>
        </p:blipFill>
        <p:spPr>
          <a:xfrm>
            <a:off x="2411280" y="2133720"/>
            <a:ext cx="55152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55280" y="476280"/>
            <a:ext cx="77058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e"/>
                </a:solidFill>
                <a:latin typeface="Arial"/>
              </a:rPr>
              <a:t>Основные задачи уполномоченного по охране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"/>
          <p:cNvSpPr/>
          <p:nvPr/>
        </p:nvSpPr>
        <p:spPr>
          <a:xfrm>
            <a:off x="755640" y="1650600"/>
            <a:ext cx="77770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Содействие работодателю и иным должностным лицам в создании в структурном подразделении (организации) здоровых и безопасных условий труда, соответствующих требованиям норм и правил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- Осуществление контроля за состоянием охраны труда в организации (структурном подразделении) и соблюдением законных прав и интересов работников в области охраны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Представление интересов работников при рассмотрении трудовых споров, связанных с применением законодательства об охране труда, выполнением работодателем обязательств, установленных коллективным договором и мероприятий по охране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  Консультирование работников по вопросам охраны труда, оказание им помощи по защите их прав на охрану тру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8:08:05Z</dcterms:created>
  <dc:creator>Юрий</dc:creator>
  <dc:description/>
  <dc:language>en-US</dc:language>
  <cp:lastModifiedBy>Бажова Оксана Викторовна</cp:lastModifiedBy>
  <dcterms:modified xsi:type="dcterms:W3CDTF">2016-11-10T06:44:01Z</dcterms:modified>
  <cp:revision>17</cp:revision>
  <dc:subject/>
  <dc:title>Организация проверок в ОО по вопросам ПБ и норм выдачи СИЗ </dc:title>
</cp:coreProperties>
</file>